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A2C5-69BB-4F5B-8A0F-F189BE4B7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82D3-384A-46BF-BB75-DED526349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5637-8F8B-4C6C-A8A1-88021E062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516B-C276-41D6-8B91-0E8A3BCF6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3BB3-C8B5-4BC1-9C76-7406E95C8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133A0-F4C1-4D24-8F07-0942DC4E1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CA60-21D4-4A9A-8769-63039EF10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21C17-8D6B-4670-9EA9-64422B48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BA609-1076-4650-B7DC-221AC6A8C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830A2-1FB9-47CA-852C-BD4CF8FB5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ECD90-E3B8-4B39-A7A5-A3940AA45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FC006-8092-4203-A28C-2A14F9B0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10D26-F99C-426E-AC1D-A75C560C4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00828-42AF-4735-9B21-4419A4E51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1B882-90C2-4A3F-A8FC-A1A111542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EAF14-AA4B-4A5C-9390-2C5191E4D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219F-7F57-424B-ADE6-68F7A5B5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99195-D521-48A7-9C4D-1CD705C2B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CB6AB-645E-4190-8D7D-83624C281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79785-73B8-4A7A-8DCB-9B0685667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147D8-C565-48A7-8494-46E4B37E1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6FFCB-4545-4A9A-85E9-1CC27E680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3309-213A-4626-BDC5-475B0C41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6DFA-76A7-4665-9011-C8C6E03B6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CBBAB-8DA3-4BCA-9372-41CE05A84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C6410-8623-45CC-A6DF-DF8B3BA6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7F07-1406-4E46-ABF8-54BCE2425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DA08-2DBC-41C8-A407-DE55BEC2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3725-0D70-4F69-A35C-CCCC49648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703C-E874-452B-82D0-17D251A53C6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85E1-B4DB-4AC9-A9B6-DB2251697A1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Picture 5"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wo 20 minute rotations:  Themed-Discussion Groups</a:t>
            </a:r>
            <a:endParaRPr b="0" lang="en-US" sz="2800" spc="-1" strike="noStrike">
              <a:solidFill>
                <a:srgbClr val="000000"/>
              </a:solidFill>
              <a:latin typeface="Arial"/>
            </a:endParaRPr>
          </a:p>
          <a:p>
            <a:pPr lvl="1" marL="743040" indent="-28584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ey Ques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do you currently align resources with prio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what ways could resources be aligned</a:t>
            </a:r>
            <a:br>
              <a:rPr sz="2400"/>
            </a:br>
            <a:r>
              <a:rPr b="0" lang="en-CA" sz="2400" spc="-1" strike="noStrike">
                <a:solidFill>
                  <a:srgbClr val="000000"/>
                </a:solidFill>
                <a:latin typeface="Arial"/>
              </a:rPr>
              <a:t>with priorities more effectively?</a:t>
            </a:r>
            <a:endParaRPr b="0" lang="en-US" sz="2400" spc="-1" strike="noStrike">
              <a:solidFill>
                <a:srgbClr val="000000"/>
              </a:solidFill>
              <a:latin typeface="Arial"/>
            </a:endParaRPr>
          </a:p>
        </p:txBody>
      </p:sp>
      <p:pic>
        <p:nvPicPr>
          <p:cNvPr id="115" name="Picture 4"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6840" y="1904760"/>
            <a:ext cx="8543880" cy="47242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did you use?  Why were these effective [or not] during your dialogue?</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conversation starters would you use during your SIP / BIP process?</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ow does a focus on aligning resources with priorities support the other 4 core leadership capacitie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enabling structures, conditions and processes are required to effectively align resources with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Picture 5"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 Jour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my new learning shifted my thinking related 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 Leadership Frame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re Leadership Capac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 Board Improvement Pla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 bring this back to my school / boar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on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7"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6T02:21:38Z</dcterms:modified>
  <cp:revision>144</cp:revision>
  <dc:subject/>
  <dc:title>Slide 1</dc:title>
</cp:coreProperties>
</file>